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BED6-06C8-407A-8957-B30F1C55F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27C7-F3B7-4E44-A6EA-9E27F56D9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CF31-66B1-48D6-9ACE-4CE5200CF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F769-F8F2-43B9-B8DB-9AD5D8F1E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E28B4-D448-4270-BBAD-AE1BB7845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16BD2-47E2-42B9-9613-6C204FD45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D355B-61CA-4FDB-A57B-6E504F421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FCF6C-CEFF-404A-8D89-84FCB4CEE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E6B2E-6ED1-47D2-9058-442BAB13B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C8861-CB1C-46D1-AF79-AECB11183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82C7F-182D-4C1C-BA99-9701E1129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8791-5CD4-4511-8E57-A034AFA4B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4E170-DA3B-4640-A30A-B6B928535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B7B0E-9569-4195-9CE7-55B6EA69D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E836A-0709-423C-9095-1A70F5A96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5B4F9-CA43-46D3-9BA6-BF5C27737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E3068-98DE-4CA2-A4B0-7BC260B6D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774B-4CD0-40F5-A281-E2741E22D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0502-27D9-43F0-8D80-CEF6E1F39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A849-2F90-4245-AB9C-4D07269B2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CB78-89A5-4F66-BE48-BBCB33C89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F5D3-22A5-483B-A6D7-06D7B9D6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8E5C-830D-4D83-A081-6EB3E75A7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192F-DCCA-44FD-A64E-0A7284BF3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  <a:p>
            <a:pPr lvl="1" marL="735480" indent="-282960">
              <a:spcBef>
                <a:spcPts val="799"/>
              </a:spcBef>
              <a:buClr>
                <a:srgbClr val="ffff6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  <a:p>
            <a:pPr lvl="2" marL="1131480" indent="-226080">
              <a:spcBef>
                <a:spcPts val="799"/>
              </a:spcBef>
              <a:buClr>
                <a:srgbClr val="ffff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  <a:p>
            <a:pPr lvl="3" marL="1584000" indent="-226080">
              <a:spcBef>
                <a:spcPts val="799"/>
              </a:spcBef>
              <a:buClr>
                <a:srgbClr val="ffff6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  <a:p>
            <a:pPr lvl="4" marL="2036520" indent="-226080">
              <a:spcBef>
                <a:spcPts val="799"/>
              </a:spcBef>
              <a:buClr>
                <a:srgbClr val="ffff66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  <a:p>
            <a:pPr lvl="5" marL="2036520" indent="-226080">
              <a:spcBef>
                <a:spcPts val="799"/>
              </a:spcBef>
              <a:buClr>
                <a:srgbClr val="ffff66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  <a:p>
            <a:pPr lvl="6" marL="2036520" indent="-226080">
              <a:spcBef>
                <a:spcPts val="799"/>
              </a:spcBef>
              <a:buClr>
                <a:srgbClr val="ffff66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entury Goth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entury Gothic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97573-49A8-403C-B1A7-1E0460B6E3AC}" type="slidenum">
              <a:rPr b="0" lang="en-US" sz="1400" spc="-1" strike="noStrike">
                <a:solidFill>
                  <a:srgbClr val="ffff66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entury Goth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entury Gothic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F6543-838B-40FA-AEC9-B70B8AB9EE09}" type="slidenum">
              <a:rPr b="0" lang="en-US" sz="1400" spc="-1" strike="noStrike">
                <a:solidFill>
                  <a:srgbClr val="ffff66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ffff66"/>
              </a:solidFill>
              <a:latin typeface="Century Gothic"/>
            </a:endParaRPr>
          </a:p>
          <a:p>
            <a:pPr lvl="2" marL="914400" algn="ctr">
              <a:spcBef>
                <a:spcPts val="601"/>
              </a:spcBef>
              <a:buClr>
                <a:srgbClr val="ffff66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ffff66"/>
              </a:solidFill>
              <a:latin typeface="Century Gothic"/>
            </a:endParaRPr>
          </a:p>
          <a:p>
            <a:pPr lvl="3" marL="1371600" algn="ctr">
              <a:spcBef>
                <a:spcPts val="499"/>
              </a:spcBef>
              <a:buClr>
                <a:srgbClr val="ffff66"/>
              </a:buClr>
              <a:buFont typeface="Century Gothic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66"/>
              </a:solidFill>
              <a:latin typeface="Century Gothic"/>
            </a:endParaRPr>
          </a:p>
          <a:p>
            <a:pPr lvl="4" marL="1828800" algn="ctr">
              <a:spcBef>
                <a:spcPts val="499"/>
              </a:spcBef>
              <a:buClr>
                <a:srgbClr val="ffff66"/>
              </a:buClr>
              <a:buFont typeface="Century Gothic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66"/>
              </a:solidFill>
              <a:latin typeface="Century Gothic"/>
            </a:endParaRPr>
          </a:p>
          <a:p>
            <a:pPr lvl="5" marL="1828800">
              <a:spcBef>
                <a:spcPts val="499"/>
              </a:spcBef>
              <a:buClr>
                <a:srgbClr val="ffff66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66"/>
              </a:solidFill>
              <a:latin typeface="Century Gothic"/>
            </a:endParaRPr>
          </a:p>
          <a:p>
            <a:pPr lvl="6" marL="1828800">
              <a:spcBef>
                <a:spcPts val="499"/>
              </a:spcBef>
              <a:buClr>
                <a:srgbClr val="ffff66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66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7848360" cy="18288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8b100d"/>
                </a:solidFill>
                <a:latin typeface="Century Gothic"/>
              </a:rPr>
              <a:t>Severe Bleeding</a:t>
            </a:r>
            <a:endParaRPr b="0" lang="en-US" sz="6600" spc="-1" strike="noStrike">
              <a:solidFill>
                <a:srgbClr val="ffff66"/>
              </a:solidFill>
              <a:latin typeface="Century Gothic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3124080" cy="31176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228600" y="624852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2046"/>
                </a:solidFill>
                <a:latin typeface="Century Gothic"/>
              </a:rPr>
              <a:t>Three ways to control severe bleeding</a:t>
            </a:r>
            <a:endParaRPr b="0" lang="en-US" sz="36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entury Gothic"/>
              </a:rPr>
              <a:t>Apply direct pressure to the wound to stop or slow blood loss.Place a clean cloth over the wound and press on it. Add more cloth if needed but don’t remove the first one.</a:t>
            </a:r>
            <a:endParaRPr b="0" lang="en-US" sz="2400" spc="-1" strike="noStrike">
              <a:solidFill>
                <a:srgbClr val="ffff66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entury Gothic"/>
              </a:rPr>
              <a:t>Put direct pressure on the main artery leading to the wound with the same amount of pressure on the wound.</a:t>
            </a:r>
            <a:endParaRPr b="0" lang="en-US" sz="2400" spc="-1" strike="noStrike">
              <a:solidFill>
                <a:srgbClr val="ffff66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entury Gothic"/>
              </a:rPr>
              <a:t>Raise the bleeding body part above the persons heart unless the person has a broken bone.When the bleeding has stopped, cover the wound to prevent infection.</a:t>
            </a:r>
            <a:endParaRPr b="0" lang="en-US" sz="2400" spc="-1" strike="noStrike">
              <a:solidFill>
                <a:srgbClr val="ffff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3T13:17:48Z</dcterms:created>
  <dc:creator>Kraybill Campus LMS</dc:creator>
  <dc:description/>
  <dc:language>en-US</dc:language>
  <cp:lastModifiedBy>Kraybill Campus LMS</cp:lastModifiedBy>
  <dcterms:modified xsi:type="dcterms:W3CDTF">2011-05-24T13:11:29Z</dcterms:modified>
  <cp:revision>9</cp:revision>
  <dc:subject/>
  <dc:title>Severe Bleeding</dc:title>
</cp:coreProperties>
</file>